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F16-8094-4E3C-89A8-7303CF18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0C4-1B99-411D-B5C3-33EB601F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069-D6D4-4A8A-9DB7-568ED6CBF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DCE-FC63-4361-AD80-73C5C1F2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B99-C5EB-475A-82A7-9AF83A94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B4D-E9DA-415C-A5E7-A57B10ED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61F-6676-4A71-8C9B-84E592D8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DE67-96E6-4E3C-A864-AEA0F04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E4CB-600D-4627-A0E4-3FD9CBA8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7FA-7F09-4287-9F02-E00B44BE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5460-EB9B-4B51-AD96-7DF129AC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B64-DEAB-4DD8-8241-87E238A0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CC12-26FD-4FA5-B1BE-C76942C3D1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24360" y="1557360"/>
            <a:ext cx="4751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Segoe Print"/>
              </a:rPr>
              <a:t>текстовый процессор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Segoe Print"/>
              <a:ea typeface="Segoe Prin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03280" y="2276640"/>
            <a:ext cx="6400800" cy="25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Word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39640" y="508464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rcRect l="21217" t="38381" r="65304" b="46306"/>
          <a:stretch/>
        </p:blipFill>
        <p:spPr>
          <a:xfrm>
            <a:off x="684360" y="5229360"/>
            <a:ext cx="1371600" cy="1168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835280" y="522936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Line 3"/>
          <p:cNvSpPr/>
          <p:nvPr/>
        </p:nvSpPr>
        <p:spPr>
          <a:xfrm flipV="1">
            <a:off x="1828800" y="1676520"/>
            <a:ext cx="60948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Макро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едакт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>
            <a:off x="1828800" y="3048120"/>
            <a:ext cx="76212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5105520" y="0"/>
            <a:ext cx="35049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чать запис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5410080" y="2233440"/>
            <a:ext cx="2895840" cy="8845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дал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25146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105520" y="1333080"/>
            <a:ext cx="373356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пол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5334120" y="3481920"/>
            <a:ext cx="2971800" cy="978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Макрос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менит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в нужны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1752480" y="2742840"/>
            <a:ext cx="838440" cy="304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4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3"/>
          <p:cNvSpPr/>
          <p:nvPr/>
        </p:nvSpPr>
        <p:spPr>
          <a:xfrm>
            <a:off x="1447920" y="3124080"/>
            <a:ext cx="1108080" cy="12416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Фор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484360" y="5445000"/>
            <a:ext cx="1366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V="1">
            <a:off x="1371600" y="304920"/>
            <a:ext cx="121932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590920" y="0"/>
            <a:ext cx="1260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284720" y="0"/>
            <a:ext cx="4325760" cy="3292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Алгоритм создания: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1. Создать шаблон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3. </a:t>
            </a: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Вводить текст, вставлять Поля, устанавливать параметры Полей.</a:t>
            </a:r>
            <a:br>
              <a:rPr sz="2400"/>
            </a:b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4. Защитить фор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427640" y="5507280"/>
            <a:ext cx="4249800" cy="1313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Печать пуст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Печать заполненной формы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Печать значений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2627280" y="4149720"/>
            <a:ext cx="15843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пол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3537720"/>
            <a:ext cx="4383000" cy="1829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Алгоритм заполнения: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1. Создать документ на основе шаблона формы.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2. Заполнить Поля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3. Сохранить форму или</a:t>
            </a:r>
            <a:br>
              <a:rPr sz="2000"/>
            </a:br>
            <a:r>
              <a:rPr b="0" lang="ru-RU" sz="2000" spc="-1" strike="noStrike">
                <a:solidFill>
                  <a:srgbClr val="990099"/>
                </a:solidFill>
                <a:latin typeface="Times New Roman"/>
              </a:rPr>
              <a:t>4. Сохранить значения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1371600" y="3124080"/>
            <a:ext cx="10396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Line 3"/>
          <p:cNvSpPr/>
          <p:nvPr/>
        </p:nvSpPr>
        <p:spPr>
          <a:xfrm flipV="1">
            <a:off x="1143000" y="1066320"/>
            <a:ext cx="7621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057400" y="14479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Текст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0" y="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Сти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057400" y="20574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объ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1066680" y="228240"/>
            <a:ext cx="914400" cy="1523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1066680" y="175248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05740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лонтит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286000" y="388620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4427640" y="3898440"/>
            <a:ext cx="144756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0574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голов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4"/>
          <p:cNvSpPr/>
          <p:nvPr/>
        </p:nvSpPr>
        <p:spPr>
          <a:xfrm>
            <a:off x="6858000" y="3847680"/>
            <a:ext cx="1295280" cy="305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5"/>
          <p:cNvSpPr/>
          <p:nvPr/>
        </p:nvSpPr>
        <p:spPr>
          <a:xfrm>
            <a:off x="380880" y="3923280"/>
            <a:ext cx="1371600" cy="3988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1066680" y="1752480"/>
            <a:ext cx="7621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724280" y="144792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629400" y="3808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сновной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6629400" y="1371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нак 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5943600" y="1447920"/>
            <a:ext cx="533520" cy="152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0" y="160020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Стиль Абз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4"/>
          <p:cNvSpPr/>
          <p:nvPr/>
        </p:nvSpPr>
        <p:spPr>
          <a:xfrm flipV="1">
            <a:off x="5867280" y="609120"/>
            <a:ext cx="68580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4343400" y="2971800"/>
            <a:ext cx="68580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6"/>
          <p:cNvSpPr/>
          <p:nvPr/>
        </p:nvSpPr>
        <p:spPr>
          <a:xfrm flipH="1">
            <a:off x="3048120" y="2895480"/>
            <a:ext cx="129528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7"/>
          <p:cNvSpPr/>
          <p:nvPr/>
        </p:nvSpPr>
        <p:spPr>
          <a:xfrm flipH="1">
            <a:off x="1143000" y="2971800"/>
            <a:ext cx="3124080" cy="8380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8"/>
          <p:cNvSpPr/>
          <p:nvPr/>
        </p:nvSpPr>
        <p:spPr>
          <a:xfrm>
            <a:off x="4419720" y="2971800"/>
            <a:ext cx="3047760" cy="762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981080" y="5752800"/>
            <a:ext cx="5029200" cy="579600"/>
          </a:xfrm>
          <a:prstGeom prst="rect">
            <a:avLst/>
          </a:prstGeom>
          <a:noFill/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тиль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(выбрать нужный тип стиля и задать соответствующую команду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1295280" y="4419720"/>
            <a:ext cx="320040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2895480" y="4267080"/>
            <a:ext cx="1600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33"/>
          <p:cNvSpPr/>
          <p:nvPr/>
        </p:nvSpPr>
        <p:spPr>
          <a:xfrm flipH="1">
            <a:off x="4495680" y="4267080"/>
            <a:ext cx="457200" cy="1447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34"/>
          <p:cNvSpPr/>
          <p:nvPr/>
        </p:nvSpPr>
        <p:spPr>
          <a:xfrm flipH="1">
            <a:off x="4572000" y="4267080"/>
            <a:ext cx="274320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8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Что такое текстовый редактор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акие основные функции текстового редактор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Что такое редактирование текст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то такое форматирование текст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В чем отличие форматов текстовых файлов TXT, RTF, DO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Прямоугольник 5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68000" y="1267920"/>
            <a:ext cx="8351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ть, что такое текстовые редакторы и процессоры, основные понятия, используемые при редактировании и форматировании текстовых документ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ащимся, имеющим компьютеры дома, продолжить осваивать «слепой десятипальцевый метод печати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*.Дополнительное задание: узнать, какие текстовые редакторы имеются у вас до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-73080"/>
            <a:ext cx="842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79440" y="1833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5479920" cy="1566720"/>
          </a:xfrm>
          <a:prstGeom prst="rect">
            <a:avLst/>
          </a:prstGeom>
          <a:ln w="0">
            <a:noFill/>
          </a:ln>
        </p:spPr>
      </p:pic>
      <p:pic>
        <p:nvPicPr>
          <p:cNvPr id="294" name="Прямоугольник 4" descr=""/>
          <p:cNvPicPr/>
          <p:nvPr/>
        </p:nvPicPr>
        <p:blipFill>
          <a:blip r:embed="rId2"/>
          <a:stretch/>
        </p:blipFill>
        <p:spPr>
          <a:xfrm>
            <a:off x="646200" y="1487520"/>
            <a:ext cx="78580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759040" y="28288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ъек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260280"/>
            <a:ext cx="200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Докум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197000"/>
            <a:ext cx="222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екст (фраг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611280" y="299736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84360" y="3789360"/>
            <a:ext cx="18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Табл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276720" y="126828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По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27280" y="530064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Фор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6948360" y="3284640"/>
            <a:ext cx="16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Макро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356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Web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 стран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733920" y="373392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Встроенные объек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276720" y="33336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Шабл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5724360" y="4653000"/>
            <a:ext cx="20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"/>
          <p:cNvPicPr/>
          <p:nvPr/>
        </p:nvPicPr>
        <p:blipFill>
          <a:blip r:embed="rId1"/>
          <a:srcRect l="3104" t="56328" r="86503" b="28346"/>
          <a:stretch/>
        </p:blipFill>
        <p:spPr>
          <a:xfrm>
            <a:off x="6140520" y="4508640"/>
            <a:ext cx="1547640" cy="1719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7164360" y="4292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-100440"/>
            <a:ext cx="798984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леченный в письменную форму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удостоверяющий наличие фактов определенного знач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зафиксированная на каком-либо материальном носителе человеческая мысль; в общем плане связная и полная последовательность символ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исунок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изображение на плоскости, созданное средствами граф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 это структура данных, обычно массив, используемая с целью заменить вычисления на операцию простого пои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троенные объект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 – это сложная сущность, способная хранить сразу несколько значений разных тип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специальные области для обработки данных, а также для создания составных 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коман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ил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 программный алгоритм действий, записанный пользователем. Часто макросы применяют для выполнения рутинных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ы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 взаимное расположение границ (контуров) предмета, объекта, а также взаимное расположение точек ли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иль абзацев и стиль символов. Сти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– это совокупность параметров форматирования, которой дано им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8"/>
          <p:cNvSpPr/>
          <p:nvPr/>
        </p:nvSpPr>
        <p:spPr>
          <a:xfrm>
            <a:off x="2590920" y="8380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с указанием папки и имени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2666880" y="3352680"/>
            <a:ext cx="2514600" cy="10087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br>
              <a:rPr sz="2000"/>
            </a:b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несколько версий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590920" y="198108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хранить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од тем же имене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4"/>
          <p:cNvSpPr/>
          <p:nvPr/>
        </p:nvSpPr>
        <p:spPr>
          <a:xfrm flipV="1">
            <a:off x="1981080" y="1371600"/>
            <a:ext cx="609840" cy="137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410080" y="2018160"/>
            <a:ext cx="29718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"/>
          <p:cNvSpPr/>
          <p:nvPr/>
        </p:nvSpPr>
        <p:spPr>
          <a:xfrm flipV="1">
            <a:off x="1905120" y="457200"/>
            <a:ext cx="609480" cy="2286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"/>
          <p:cNvSpPr/>
          <p:nvPr/>
        </p:nvSpPr>
        <p:spPr>
          <a:xfrm>
            <a:off x="1905120" y="3124080"/>
            <a:ext cx="68580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>
            <a:off x="1981080" y="3200400"/>
            <a:ext cx="53352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>
            <a:off x="1905120" y="3124080"/>
            <a:ext cx="761760" cy="1600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1828800" y="3124080"/>
            <a:ext cx="83808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334120" y="265680"/>
            <a:ext cx="28954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2666880" y="2819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>
            <a:off x="5410080" y="278028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кры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5334120" y="95148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ка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5410080" y="3313440"/>
            <a:ext cx="297180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       верс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2"/>
          <p:cNvSpPr/>
          <p:nvPr/>
        </p:nvSpPr>
        <p:spPr>
          <a:xfrm>
            <a:off x="2743200" y="639756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3"/>
          <p:cNvSpPr/>
          <p:nvPr/>
        </p:nvSpPr>
        <p:spPr>
          <a:xfrm>
            <a:off x="5486400" y="6422040"/>
            <a:ext cx="28195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4"/>
          <p:cNvSpPr/>
          <p:nvPr/>
        </p:nvSpPr>
        <p:spPr>
          <a:xfrm flipV="1">
            <a:off x="1905120" y="2362320"/>
            <a:ext cx="609480" cy="3808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2743200" y="44956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2743200" y="556272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Защи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5334120" y="4989960"/>
            <a:ext cx="358128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охран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доступ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5334120" y="43041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раметры страниц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1828800" y="3200400"/>
            <a:ext cx="914400" cy="33526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2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cc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4"/>
          <p:cNvSpPr/>
          <p:nvPr/>
        </p:nvSpPr>
        <p:spPr>
          <a:xfrm>
            <a:off x="228600" y="25290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Доку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7" descr=""/>
          <p:cNvPicPr/>
          <p:nvPr/>
        </p:nvPicPr>
        <p:blipFill>
          <a:blip r:embed="rId1"/>
          <a:srcRect l="2107" t="60202" r="87688" b="28611"/>
          <a:stretch/>
        </p:blipFill>
        <p:spPr>
          <a:xfrm>
            <a:off x="324000" y="508464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9"/>
          <p:cNvSpPr/>
          <p:nvPr/>
        </p:nvSpPr>
        <p:spPr>
          <a:xfrm>
            <a:off x="324000" y="465300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"/>
          <p:cNvSpPr/>
          <p:nvPr/>
        </p:nvSpPr>
        <p:spPr>
          <a:xfrm flipV="1">
            <a:off x="1905120" y="1599840"/>
            <a:ext cx="609480" cy="12193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666880" y="33498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53352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ек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666880" y="38829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йти и 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90920" y="251136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реме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5410080" y="23166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 flipV="1">
            <a:off x="1752480" y="533160"/>
            <a:ext cx="838440" cy="23619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1828800" y="2971800"/>
            <a:ext cx="914400" cy="609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1981080" y="3200400"/>
            <a:ext cx="685800" cy="914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905120" y="3124080"/>
            <a:ext cx="838080" cy="2210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7"/>
          <p:cNvSpPr/>
          <p:nvPr/>
        </p:nvSpPr>
        <p:spPr>
          <a:xfrm>
            <a:off x="1828800" y="3124080"/>
            <a:ext cx="838080" cy="33530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2590920" y="228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5257800" y="341640"/>
            <a:ext cx="28954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 все (или мышко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5410080" y="33105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чист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2590920" y="136836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5334120" y="140220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5410080" y="37645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й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Замен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7"/>
          <p:cNvSpPr/>
          <p:nvPr/>
        </p:nvSpPr>
        <p:spPr>
          <a:xfrm flipV="1">
            <a:off x="1905120" y="2666520"/>
            <a:ext cx="685800" cy="228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2819520" y="47242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 (форматироват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9"/>
          <p:cNvSpPr/>
          <p:nvPr/>
        </p:nvSpPr>
        <p:spPr>
          <a:xfrm>
            <a:off x="2743200" y="6093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0"/>
          <p:cNvSpPr/>
          <p:nvPr/>
        </p:nvSpPr>
        <p:spPr>
          <a:xfrm>
            <a:off x="5334120" y="60537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еобразовать в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5334120" y="4758120"/>
            <a:ext cx="358128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Шриф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Абза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7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40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1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0" y="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 flipV="1">
            <a:off x="1828800" y="1066680"/>
            <a:ext cx="685800" cy="19051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90920" y="25146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да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0" y="2666880"/>
            <a:ext cx="23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Рису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666880" y="3276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2590920" y="1905120"/>
            <a:ext cx="259056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5334120" y="1942200"/>
            <a:ext cx="297180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Один щелчок мыш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1828800" y="2666520"/>
            <a:ext cx="685800" cy="3812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1676520" y="3048120"/>
            <a:ext cx="91440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1752480" y="3124080"/>
            <a:ext cx="9144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828800" y="3124080"/>
            <a:ext cx="762120" cy="1828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рис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181480" y="37080"/>
            <a:ext cx="350532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о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5410080" y="2475360"/>
            <a:ext cx="289584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2514600" y="7621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181480" y="998280"/>
            <a:ext cx="350532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артинки (или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5410080" y="308196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2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раз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Изменить ви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ат рисун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334120" y="4151880"/>
            <a:ext cx="3581280" cy="368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ередвинуть границы мыш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7"/>
          <p:cNvSpPr/>
          <p:nvPr/>
        </p:nvSpPr>
        <p:spPr>
          <a:xfrm>
            <a:off x="0" y="20876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8"/>
          <p:cNvSpPr/>
          <p:nvPr/>
        </p:nvSpPr>
        <p:spPr>
          <a:xfrm>
            <a:off x="2743200" y="54100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рез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Панель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Настройка изображения, 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кнопка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рез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1752480" y="3048120"/>
            <a:ext cx="914400" cy="2438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бъединить рисун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257800" y="613872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Группиро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Груп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4"/>
          <p:cNvSpPr/>
          <p:nvPr/>
        </p:nvSpPr>
        <p:spPr>
          <a:xfrm>
            <a:off x="1676520" y="3048120"/>
            <a:ext cx="1066680" cy="3429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5"/>
          <p:cNvSpPr/>
          <p:nvPr/>
        </p:nvSpPr>
        <p:spPr>
          <a:xfrm>
            <a:off x="0" y="4952880"/>
            <a:ext cx="213372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ложение рисун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6"/>
          <p:cNvSpPr/>
          <p:nvPr/>
        </p:nvSpPr>
        <p:spPr>
          <a:xfrm>
            <a:off x="0" y="5981400"/>
            <a:ext cx="2438280" cy="5796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, контекстное меню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орядо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37"/>
          <p:cNvSpPr/>
          <p:nvPr/>
        </p:nvSpPr>
        <p:spPr>
          <a:xfrm flipH="1">
            <a:off x="1219320" y="3048120"/>
            <a:ext cx="45720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Line 3"/>
          <p:cNvSpPr/>
          <p:nvPr/>
        </p:nvSpPr>
        <p:spPr>
          <a:xfrm flipV="1">
            <a:off x="1828800" y="1484280"/>
            <a:ext cx="582480" cy="1487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556000" y="1844640"/>
            <a:ext cx="251460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обавить (Удалить) ячей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0" y="26668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Табл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84360" y="29242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"/>
          <p:cNvSpPr/>
          <p:nvPr/>
        </p:nvSpPr>
        <p:spPr>
          <a:xfrm flipV="1">
            <a:off x="1752480" y="304920"/>
            <a:ext cx="838440" cy="259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828800" y="3048120"/>
            <a:ext cx="582480" cy="205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2"/>
          <p:cNvSpPr/>
          <p:nvPr/>
        </p:nvSpPr>
        <p:spPr>
          <a:xfrm>
            <a:off x="1676520" y="3048120"/>
            <a:ext cx="1095120" cy="1101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1752480" y="3124080"/>
            <a:ext cx="947880" cy="19605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4"/>
          <p:cNvSpPr/>
          <p:nvPr/>
        </p:nvSpPr>
        <p:spPr>
          <a:xfrm>
            <a:off x="1828800" y="3124080"/>
            <a:ext cx="798480" cy="253692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зд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105520" y="0"/>
            <a:ext cx="350496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обавить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Таблицу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рисовать таблиц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5148360" y="1628640"/>
            <a:ext cx="3600360" cy="109764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;Таблица </a:t>
            </a:r>
            <a:r>
              <a:rPr b="1" lang="ru-RU" sz="24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400" spc="-1" strike="noStrike">
                <a:solidFill>
                  <a:srgbClr val="990099"/>
                </a:solidFill>
                <a:latin typeface="Times New Roman"/>
              </a:rPr>
              <a:t> Добавить (Удалить) 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Строки, столбцы, ячейк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484360" y="105264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Выдел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5076720" y="1163160"/>
            <a:ext cx="37339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ыделить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выбрат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5148360" y="2958120"/>
            <a:ext cx="2971800" cy="86256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пиро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р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752480" y="2209320"/>
            <a:ext cx="838440" cy="838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743200" y="48006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ечата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334120" y="476136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айл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еч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5334120" y="4137480"/>
            <a:ext cx="358128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збить таблиц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0" y="21304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743200" y="541008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реобразовать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334120" y="52956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Преобразовать таблицу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у в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1752480" y="3048120"/>
            <a:ext cx="947880" cy="3549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2819520" y="6093000"/>
            <a:ext cx="23619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ортировка да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257800" y="629100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Таблиц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ортир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7" descr=""/>
          <p:cNvPicPr/>
          <p:nvPr/>
        </p:nvPicPr>
        <p:blipFill>
          <a:blip r:embed="rId1"/>
          <a:srcRect l="3869" t="64019" r="86503" b="20649"/>
          <a:stretch/>
        </p:blipFill>
        <p:spPr>
          <a:xfrm>
            <a:off x="395280" y="5516640"/>
            <a:ext cx="1368360" cy="1341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8"/>
          <p:cNvSpPr/>
          <p:nvPr/>
        </p:nvSpPr>
        <p:spPr>
          <a:xfrm>
            <a:off x="324000" y="5084640"/>
            <a:ext cx="165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99"/>
                </a:solidFill>
                <a:latin typeface="Times New Roman"/>
              </a:rPr>
              <a:t>Я помощ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Line 3"/>
          <p:cNvSpPr/>
          <p:nvPr/>
        </p:nvSpPr>
        <p:spPr>
          <a:xfrm flipV="1">
            <a:off x="1676520" y="1752480"/>
            <a:ext cx="76176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590920" y="342900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у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666880" y="449568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2666880" y="2514600"/>
            <a:ext cx="259092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Урав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1600200" y="304560"/>
            <a:ext cx="99072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1752480" y="2209680"/>
            <a:ext cx="762120" cy="4572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1600200" y="2895480"/>
            <a:ext cx="99072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1676520" y="2971800"/>
            <a:ext cx="990360" cy="17524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Фигурный тек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5105520" y="0"/>
            <a:ext cx="3504960" cy="1378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imes New Roman"/>
              </a:rPr>
              <a:t>ил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Word 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5410080" y="2323080"/>
            <a:ext cx="289584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514600" y="1676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Рисунок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9"/>
          <p:cNvSpPr/>
          <p:nvPr/>
        </p:nvSpPr>
        <p:spPr>
          <a:xfrm>
            <a:off x="5105520" y="1714320"/>
            <a:ext cx="37335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исунок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Из фай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0"/>
          <p:cNvSpPr/>
          <p:nvPr/>
        </p:nvSpPr>
        <p:spPr>
          <a:xfrm>
            <a:off x="5410080" y="3008520"/>
            <a:ext cx="2971800" cy="10087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2743200" y="5715000"/>
            <a:ext cx="243828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рганизационная структу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334120" y="441288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иаграмма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icrosoft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0" y="219384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строенные объек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9"/>
          <p:cNvSpPr/>
          <p:nvPr/>
        </p:nvSpPr>
        <p:spPr>
          <a:xfrm>
            <a:off x="1600200" y="2895480"/>
            <a:ext cx="1066680" cy="31244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5334120" y="5752800"/>
            <a:ext cx="35812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Объект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MS Organization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8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Line 3"/>
          <p:cNvSpPr/>
          <p:nvPr/>
        </p:nvSpPr>
        <p:spPr>
          <a:xfrm flipV="1">
            <a:off x="1371600" y="761760"/>
            <a:ext cx="1219320" cy="20574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0" y="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46240" y="2616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</a:rPr>
              <a:t>П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590920" y="21337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90920" y="1066680"/>
            <a:ext cx="2590560" cy="94752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азвание 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(таблиц, рисунков, формул и т.п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295280" y="304560"/>
            <a:ext cx="1295640" cy="25146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2"/>
          <p:cNvSpPr/>
          <p:nvPr/>
        </p:nvSpPr>
        <p:spPr>
          <a:xfrm flipV="1">
            <a:off x="1447920" y="2361960"/>
            <a:ext cx="1066680" cy="685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1523880" y="3124080"/>
            <a:ext cx="990720" cy="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1523880" y="3124080"/>
            <a:ext cx="1143000" cy="60984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2590920" y="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5105520" y="0"/>
            <a:ext cx="350496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омера страни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334120" y="1942920"/>
            <a:ext cx="3352680" cy="6102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ерекрестная ссыл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8"/>
          <p:cNvSpPr/>
          <p:nvPr/>
        </p:nvSpPr>
        <p:spPr>
          <a:xfrm>
            <a:off x="2590920" y="533520"/>
            <a:ext cx="251460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5257800" y="1409400"/>
            <a:ext cx="342900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5410080" y="2856600"/>
            <a:ext cx="327672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Колонтиту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1371600" y="1600200"/>
            <a:ext cx="1219320" cy="129528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2743200" y="358128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Снос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2743200" y="4114800"/>
            <a:ext cx="243828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Огла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5334120" y="4075560"/>
            <a:ext cx="3581280" cy="70380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Оглавление и указате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5410080" y="3542400"/>
            <a:ext cx="3429000" cy="3988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Сно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27"/>
          <p:cNvSpPr/>
          <p:nvPr/>
        </p:nvSpPr>
        <p:spPr>
          <a:xfrm>
            <a:off x="2666880" y="4724280"/>
            <a:ext cx="2438640" cy="39888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слия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5334120" y="4914720"/>
            <a:ext cx="358128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ервис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Слия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9"/>
          <p:cNvSpPr/>
          <p:nvPr/>
        </p:nvSpPr>
        <p:spPr>
          <a:xfrm>
            <a:off x="1523880" y="3124080"/>
            <a:ext cx="1143000" cy="11430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2666880" y="5257800"/>
            <a:ext cx="2362320" cy="122184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форм (</a:t>
            </a:r>
            <a:r>
              <a:rPr b="0" lang="ru-RU" sz="1800" spc="-1" strike="noStrike">
                <a:solidFill>
                  <a:srgbClr val="ff3300"/>
                </a:solidFill>
                <a:latin typeface="Times New Roman"/>
              </a:rPr>
              <a:t>Поле текста, Поле со списком, Флажок, Переключатель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5257800" y="5447880"/>
            <a:ext cx="3581280" cy="9151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ид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Панели инструментов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Формы (Элементы управлен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2"/>
          <p:cNvSpPr/>
          <p:nvPr/>
        </p:nvSpPr>
        <p:spPr>
          <a:xfrm>
            <a:off x="1447920" y="3048120"/>
            <a:ext cx="1143000" cy="190476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5257800" y="609480"/>
            <a:ext cx="3505320" cy="30528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Вставка </a:t>
            </a:r>
            <a:r>
              <a:rPr b="1" lang="ru-RU" sz="2000" spc="-1" strike="noStrike">
                <a:solidFill>
                  <a:srgbClr val="990099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Дата и 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7"/>
          <p:cNvSpPr/>
          <p:nvPr/>
        </p:nvSpPr>
        <p:spPr>
          <a:xfrm>
            <a:off x="2590920" y="2743200"/>
            <a:ext cx="2590560" cy="703800"/>
          </a:xfrm>
          <a:prstGeom prst="rect">
            <a:avLst/>
          </a:prstGeom>
          <a:noFill/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imes New Roman"/>
              </a:rPr>
              <a:t>Поля в колонтитула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8"/>
          <p:cNvSpPr/>
          <p:nvPr/>
        </p:nvSpPr>
        <p:spPr>
          <a:xfrm>
            <a:off x="1371600" y="3048120"/>
            <a:ext cx="1295280" cy="2971800"/>
          </a:xfrm>
          <a:prstGeom prst="line">
            <a:avLst/>
          </a:prstGeom>
          <a:ln w="6048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689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05:10:22Z</dcterms:created>
  <dc:creator>класс</dc:creator>
  <dc:description/>
  <dc:language>en-US</dc:language>
  <cp:lastModifiedBy>Ольга</cp:lastModifiedBy>
  <dcterms:modified xsi:type="dcterms:W3CDTF">2015-04-26T10:35:40Z</dcterms:modified>
  <cp:revision>31</cp:revision>
  <dc:subject/>
  <dc:title>Презентация PowerPoint</dc:title>
</cp:coreProperties>
</file>