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F4C-FA51-4DEB-84BD-A76928F0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BCC-AAC8-4D3A-B83F-09D9891E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D623-B838-4752-B111-34E3A704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137B-3EEF-49D8-92E6-713662EC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76F5-8F34-4D8C-BF15-B669F5F7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A644-E038-4F41-B1E5-8470BF10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F263-8877-420D-A081-B8536C66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F3B2-9714-41D0-90F2-D97E69C3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D313-B83D-4F56-B8AC-79890221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A293-C516-4F13-9159-AE1C7347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63BF-2013-4525-A674-D43B1553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A423-6050-4082-8EBB-76D24C10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5A5B-FEDE-4451-8A92-2B173106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4927-DE86-4766-AB54-E832184A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30EB-E62D-40E1-8B4A-16960DDD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E257-0499-4CC3-9CB2-C36151D5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86F3-BB27-438D-BF15-362E877B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88F8B-D2A1-4B98-852C-7BA7AF45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5D8DB-253E-4476-9AB2-8AB7BE7D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C3500-E11E-4B11-9AE8-E83679BC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BA165-6380-4525-A667-4CFF49EA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B2E90-3EA0-4230-AE39-299826A3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F6E0-6D03-42DF-A6CC-3A25D5D1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D3785-443C-4C82-B25E-7214794A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45E0F-5B3E-4198-8E0A-903AF74A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0D745-8E7C-4013-8F9C-1CBA3A5B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AC465B-D028-42D6-812C-9203129B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9A9B1-0052-4206-9111-6BB20C96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0BA5D8-6262-494E-B4DD-D5E29D98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6FB52-DE88-4D8E-8D43-1A80C5D0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27422-C285-4A5C-A237-6F2013AB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EE042-86C7-4BC8-A9AB-A6C67354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C9768-DDAE-498C-ADB2-83001B78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C70-39B6-4FC2-AA90-450FB6AA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CADFE-8B43-46F1-AF51-75BCAB0D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F440C-0285-4F1E-9A29-02363248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80584-01DE-4B49-B8E1-92CF5A5D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2AC52-A46B-4519-A766-5AB164D1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3DEB5-994F-4FDE-8C27-9FEC6D0C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771F7-C1E8-4771-AE50-230C6872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B763C-AB46-4167-B958-700B9CFB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C7C5A-5C11-41BA-BECD-AD1AD183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251BC-B0B2-4445-BAED-ADF3E9DC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C75-B29D-439A-9AC2-27DD9E43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7BC-E1CB-4B29-9AD5-0E406384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3528-47FE-4D5A-981E-3823C63C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818D-88D0-4FBC-B41C-20C15F73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622E-34F2-492D-8525-E3F1A536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20C2-0F4C-43F2-AE68-4810AC377546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838E-A9E5-459F-B221-4903581D804D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AC39-CEE3-4A70-84B4-14B0C48FD467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FD4F-7444-4195-882F-FBA7A6A31BF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432144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Gothic"/>
              </a:rPr>
              <a:t>Занимательный уро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716280"/>
            <a:ext cx="777744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Урок-вечер </a:t>
            </a:r>
            <a:r>
              <a:rPr b="1" lang="ru-RU" sz="3200" spc="-1" strike="noStrike">
                <a:solidFill>
                  <a:srgbClr val="424242"/>
                </a:solidFill>
                <a:latin typeface="Century Gothic"/>
              </a:rPr>
              <a:t>«Учёные-педагоги»</a:t>
            </a: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, 7 клас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Презентация урока учителя физик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Кузьминой Л. 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4932360" y="42876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МБВ(С)ОУ   «О(С)ОШ №1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Г. Калуг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Экспериментальное: «Динамометр» – 10 баллов. 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но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лу тяжести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ассу бруска, объём  бруск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ано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илу упругости, растяжение пружины, коэффициент жёсткости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Учебник физики – 5 баллов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Конкурс болельщиков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Кто автор учебника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Что изображено на обложке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Каково содержание форзацев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Какова структура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5. Сколько страниц в учебнике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6. Дополнительно, что можете сообщить про учебник физики 7 класс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«Загадки о физиках-учителях» – 5 баллов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о второй – 4 балла и т. д.;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 последней – 1 балл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первая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74898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1. Он жил в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IV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веке до нашей эр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2. Он был воспитателем Александра Македонского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3. «Самая универсальная голова среди древнегреческих философов» (Ф. Энгельс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4. Свой принцип динамики он сформулировал так: «Всё, что находится в движении, движется благодаря воздействию другого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5. Крёстный отец физик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Аристотель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Объект 1" descr=""/>
          <p:cNvPicPr/>
          <p:nvPr/>
        </p:nvPicPr>
        <p:blipFill>
          <a:blip r:embed="rId1"/>
          <a:stretch/>
        </p:blipFill>
        <p:spPr>
          <a:xfrm>
            <a:off x="3213000" y="2330280"/>
            <a:ext cx="2654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втор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920" y="2323800"/>
            <a:ext cx="73454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Родился в селе Деревенском на Рязанщине в 1902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Диплом учителя математики и физики получил в рязанском учительском институте, завершил образование в МГУ им. Ломоносов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Работал в школе-коммуне им. Лепешинского с 1922 по июль 1941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Долгое время возглавлял  и работал на кафедре методике преподавания физики в МГПИ им. Ленин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Он автор учебника по физике для 7класса, по которому вы учитесь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ёрышкин А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3116160" y="2324160"/>
            <a:ext cx="2826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треть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1. Открыл атмосферу на Венер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2. В 1775 году при его активном участии был открыт первый русский университет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3. Написал первый русский учебник по минералогии и заложил основы современного стихосложения; руководил составлением карты России, создал мозаичные картины, изготавливал инструменты для морской навигации и построил первую химическую лабораторию в России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4. Он первым стал читать публичные лекции по физике на русском язык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5. Зимой 1731 года двадцати лет отроду, он пришёл с обозом в Москву и только здесь начал учиться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Ломоносов М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2" name="Объект 1" descr=""/>
          <p:cNvPicPr/>
          <p:nvPr/>
        </p:nvPicPr>
        <p:blipFill>
          <a:blip r:embed="rId1"/>
          <a:stretch/>
        </p:blipFill>
        <p:spPr>
          <a:xfrm>
            <a:off x="2930400" y="2324160"/>
            <a:ext cx="32860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четвёрт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55640" y="2323800"/>
            <a:ext cx="7632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Его предок был известный бунтарь Наливайко. Казацкий предводитель конца 16 века. Борец против польской аристократи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О себе он говорил: «Я - чистейший материалист. Ничего не признаю, кроме материи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С десяти лет глухота его сделала слабым и изгоем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О человечестве он говорил, что оно бессмертно и не останется вечно на Зем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Родился в селе Ижевском Рязанской губернии, а 40 лет прожил в Калуге, работал учителем и занимался наукой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Цели урок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Познакомить учащихся с деятельностью учёных физиков, которые в своё время работали учителями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Показать наиболее примечательные черты их мироззрения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Методы получения научных знаний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Сформировать правильное представление о характере научного труда учё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Циолковский К.Э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6" name="Picture 7" descr="КРОСФОРД_0002"/>
          <p:cNvPicPr/>
          <p:nvPr/>
        </p:nvPicPr>
        <p:blipFill>
          <a:blip r:embed="rId1"/>
          <a:stretch/>
        </p:blipFill>
        <p:spPr>
          <a:xfrm>
            <a:off x="3325680" y="2324160"/>
            <a:ext cx="23259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Итоги игр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Определение победителей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Литератур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 Кубеев М. Н. Сто великих имён России.- М.: Вече, 201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Дополнительно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чественные вопросы: №№ 447, 448, 412, 508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Содержание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060640"/>
            <a:ext cx="6777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1. Вступительное слово учителя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2. Задания для команд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 первое: «Найди правильную дорогу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второе. Каждая команда рассказывает об учёном-учите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третье – экспериментальное: «Динамометр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четвёртое: «Знаешь ли ты свой учебник физики?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пятое: «Загадки о физиках-учителях»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(Аристотель, Пёрышкин А. В., , Циолковский К. Э., Ломоносов М. В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3. Заключительное слово учителя (итог вечера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1. «Найди правильную дорогу» - 5 баллов.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ри столбика выписаны обозначения физических величин, их единицы и названия. Необходимо стрелками соединить каждую физическую величину со своей единицей измерения и названи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1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971640" y="2324160"/>
          <a:ext cx="6848280" cy="35528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1071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21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2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71640" y="2324160"/>
          <a:ext cx="6848280" cy="36986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ъё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ли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Биография учёного –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5 баллов.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команда рассказывает об учёном-учител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6226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Picture 7" descr="КРОСФОРД_0002"/>
          <p:cNvPicPr/>
          <p:nvPr/>
        </p:nvPicPr>
        <p:blipFill>
          <a:blip r:embed="rId1"/>
          <a:stretch/>
        </p:blipFill>
        <p:spPr>
          <a:xfrm>
            <a:off x="3203640" y="2349360"/>
            <a:ext cx="26636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0:52:33Z</dcterms:created>
  <dc:creator>Кузьмина</dc:creator>
  <dc:description/>
  <dc:language>en-US</dc:language>
  <cp:lastModifiedBy>Ольга</cp:lastModifiedBy>
  <dcterms:modified xsi:type="dcterms:W3CDTF">2015-07-02T14:52:42Z</dcterms:modified>
  <cp:revision>17</cp:revision>
  <dc:subject/>
  <dc:title>Презентация PowerPoint</dc:title>
</cp:coreProperties>
</file>