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21346-6CF7-4036-AF7E-66348B4F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73D9-69D5-45DD-869A-622EC044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6179-854B-4B1B-8E97-46D097D3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B56EC-0A39-4A19-BD45-A905C61C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3DE6-6D4B-4459-88B8-8BF351C9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17E02-93EE-4998-AA4D-86D68523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0B8E-FCE8-44DE-987A-98A30AD8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748B9-C2DE-426D-B17D-6F7E7F98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C5DF-4141-41E7-9F56-EF69A67E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2B94-86B5-40FE-A4AB-7582E41F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B007-70D6-43AE-A881-2D99C878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72D45-E4D8-46AD-B0EF-0B3DA580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8BD7-965C-4974-9AB6-60C3F543BAB7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третье «Электрическая цепь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а) найти ошибку в схеме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б) собрать электрическую цепь, измерить силу тока в цепи и напряжение на резисто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2" name="Объект 1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4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4" name="Объект 2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«</a:t>
            </a: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наешь ли ты свой учебник физики?»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1.Кто автор учебника?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2.   Что изображено на обложке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3.   Каково содержание форзацев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4.   Какова структура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5.  Сколько страниц в учебнике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Дополнительно, что можете сообщить про учебник физики 8 класса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«Загадки о физиках-учителях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о второй – 4 балла и т. д.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 последней – 1 балл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перв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844280"/>
            <a:ext cx="845964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С 1820 – 1825 гг.. он опубликовал ряд теоретических и экспериментальных трудов по электродинамик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Его отец  - жирондист, исполнявший обязанности судьи при мятежниках, был казнён как сообщник аристократов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В 1812 преподавал физику и химию в центральной школе г. Буг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Его фамилия есть в названии прибора, измеряющего силу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Название единицы силы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288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Ампер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33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втор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17730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Его знания по физике были весьма скудными, но он был вынужден преподавать предмет, т. к. в США был кризис и, с работой было туго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Абердинский колледж присудил ему за курс физики степень магистр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Работал у Альберта Майкельсона – тонкого знатока физического эксперимент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Создал для средних школ и колледжей первые американские учебники физик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пределил заряд электрона, удостоен Нобелевской преми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Роберт Миллекен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367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треть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в г. Ромны Полтавской губернии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В 1901 г. для приобретения опыта в постановке эксперимента уезжает к Рентгену в г. Мюнхен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Отец современной физики (под его руководством создаётся </a:t>
            </a:r>
            <a:r>
              <a:rPr b="0" lang="ru-RU" sz="2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Физико-технологический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институт)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Им было воспитано несколько поколений российских физиков 20 века (среди них П. Капица, И. Курчатов). Он был Учителем с большой буквы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дновременно с Р. Милликеном определил дискретность электрического заряд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Урок - вечер 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«Учёные, учителя - физики»,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8 класс.</a:t>
            </a:r>
            <a:br>
              <a:rPr sz="48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 </a:t>
            </a:r>
            <a:br>
              <a:rPr sz="66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8d8c"/>
                </a:solidFill>
                <a:latin typeface="Calibri"/>
              </a:rPr>
              <a:t>Презентация Кузьминой Л. В. – учителя физики ВБСОУ ОСОШ № 1 г. Калуги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Иоффе А. Ф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2556000" y="1600200"/>
            <a:ext cx="3868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четвёрта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8920" y="1599840"/>
            <a:ext cx="8280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16 марта 1789 г. в  Эрлангене,  в семье потомственного слесаря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Отец передал сыну не только знания и опыт работы с металлом, что пригодилось потом учёному при изготовлении приборов и устройств для научных исследований, но и свою настойчивость в достижении цели, работоспособность и веру в справедливость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Проучившись три семестра в университете, он в сентябре 1806 г. стал работать учителем математики в частной школе швейцарского городка Готтштадта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Он открыл теоретически  и подтвердил на опыте закон, выражающий связь между силой тока в цепи, напряжением и сопротивлением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В 1881 г. на электротехническом съезде в Париже учёные единогласно утвердили название единицы сопротивления …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0280" y="259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Георг Ом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5337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ключительное слово.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b20"/>
                </a:solidFill>
                <a:latin typeface="Calibri"/>
              </a:rPr>
              <a:t>Подведение итогов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Литература: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Кубеев М. Н. Сто великих имён России.- М.: Вече, 2010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Иоффе А. В. О физике и физиках.- Ленинград, «Наука», 1977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татья газеты «Весть» «Благодетели образования», 14 февраля 2008, четверг. №51-54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ёрышкин А. В. Физика. 8 кл.: Учеб. для общеобразоват. учреждений. – 6-е изд., стереотип. – М.: Дрофа, 2004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Цели урока: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знакомить учащихся с деятельностью учёных физиков, которые в своё время работали учителями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казать наиболее примечательные черты их мироззрения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Методы получения научных знаний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Сформировать правильное представление о характере научного труда учёных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Содержани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341000"/>
            <a:ext cx="835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ступ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 Задания для команд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второе. Каждая команда рассказывает об учёном-учителе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третье – экспериментальное: «Электрическая цепь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четвёртое: «Знаешь ли ты свой учебник физики?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пятое: «Загадки о физиках-учителях»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Ампер, Аристотель, Пёрышкин А. В., Милликен Р.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Циолковский К. Э., Ломоносов М. В., Иоффе А. Ф., Попов А. С.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Заключ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 </a:t>
            </a: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 три столбика выписаны обозначения физических величин, их единицы и их названия. Необходимо стрелками соединить каждую физическую величину со своей единицей измерения и названием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Перв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600200"/>
          <a:ext cx="7682040" cy="4492800"/>
        </p:xfrm>
        <a:graphic>
          <a:graphicData uri="http://schemas.openxmlformats.org/drawingml/2006/table">
            <a:tbl>
              <a:tblPr/>
              <a:tblGrid>
                <a:gridCol w="2560680"/>
                <a:gridCol w="1832040"/>
                <a:gridCol w="3289320"/>
              </a:tblGrid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ощадь сечени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Кл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ила ток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заряд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Втор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7786800" cy="4924440"/>
        </p:xfrm>
        <a:graphic>
          <a:graphicData uri="http://schemas.openxmlformats.org/drawingml/2006/table">
            <a:tbl>
              <a:tblPr/>
              <a:tblGrid>
                <a:gridCol w="2595600"/>
                <a:gridCol w="1735200"/>
                <a:gridCol w="3456000"/>
              </a:tblGrid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ое 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98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ℓ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*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ощность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98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напряж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987640" y="1542960"/>
            <a:ext cx="345600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52908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12:46:36Z</dcterms:created>
  <dc:creator>Кузьмина</dc:creator>
  <dc:description/>
  <dc:language>en-US</dc:language>
  <cp:lastModifiedBy>Кузьмина</cp:lastModifiedBy>
  <dcterms:modified xsi:type="dcterms:W3CDTF">2014-01-11T13:38:13Z</dcterms:modified>
  <cp:revision>18</cp:revision>
  <dc:subject/>
  <dc:title>Презентация PowerPoint</dc:title>
</cp:coreProperties>
</file>